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5C3-C5F7-46B6-B061-01EE7239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100-426D-47C2-A14E-484C10D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432-F443-4B55-8EF9-AE68020F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560-C03A-43F4-A5B6-E7E3EF14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81F0-E7C0-44CE-BE9F-23A619A8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68E6-99EE-412F-A74F-F68596BA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96C0-62DD-41F8-BE2A-2784D6AF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09CB-CF85-4A57-B91B-E5F1447B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A060-99F5-471E-9015-2F36BB31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8BD-AE46-4585-A57A-FFF483CB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FAF0-8AD3-4E53-AB3C-5047CBB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9D0-DA02-42B9-A27E-3994251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0477-264B-4579-A6DE-F77823F2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5A39-985B-47F1-AD65-95E3365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AAC7-149E-48D1-A527-52A97343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0A01-7DA1-4BB5-A150-BD0A3420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6DBA-1E46-49D0-8FFB-BEFCC993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682-865F-4C42-A0AB-6F83ECC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F41-9627-403B-96C4-74BD912E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3BC-5459-4ED6-ACC2-ACF05369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0E9-226C-4D99-B9C3-C5F94027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681-6284-4237-8EA2-BF80333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6B2-47B1-476F-A312-8FAA7F4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C4E-9D0E-4265-B09E-4E86CA8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DA49-2DAE-48A6-9034-85C46F86284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872-7C43-4AC3-83E5-4CFDA852DC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flags_nations/nations_g_to_n_variant_page_mexico_fl.html" TargetMode="External"/><Relationship Id="rId2" Type="http://schemas.openxmlformats.org/officeDocument/2006/relationships/hyperlink" Target="http://www.animationfactory.com/free/flags_nations/nations_g_to_n_variant_page_mexico_fl.html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people_a_l/legal_variant_page_lawyers_talking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rissa Maldonado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f Portra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Teen Graphics"/>
          <p:cNvPicPr/>
          <p:nvPr/>
        </p:nvPicPr>
        <p:blipFill>
          <a:blip r:embed="rId1"/>
          <a:stretch/>
        </p:blipFill>
        <p:spPr>
          <a:xfrm>
            <a:off x="-685800" y="-533520"/>
            <a:ext cx="3486240" cy="348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60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Teen Graphics"/>
          <p:cNvPicPr/>
          <p:nvPr/>
        </p:nvPicPr>
        <p:blipFill>
          <a:blip r:embed="rId2"/>
          <a:stretch/>
        </p:blipFill>
        <p:spPr>
          <a:xfrm>
            <a:off x="6114960" y="28195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RI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3048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71680" t="10020" r="0" b="60636"/>
          <a:stretch/>
        </p:blipFill>
        <p:spPr>
          <a:xfrm>
            <a:off x="5110200" y="1981080"/>
            <a:ext cx="288612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55914" t="0" r="0" b="50409"/>
          <a:stretch/>
        </p:blipFill>
        <p:spPr>
          <a:xfrm>
            <a:off x="1143000" y="2057400"/>
            <a:ext cx="30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out 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am from Monterrey, Nuevo Le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spectful young ch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iendly ch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have a high accomplishment leve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114" name=""/>
            <p:cNvSpPr/>
            <p:nvPr/>
          </p:nvSpPr>
          <p:spPr>
            <a:xfrm>
              <a:off x="0" y="306216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306216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9c004e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8" name="" descr="mexico_fl_md_wht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2895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y High Pow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lbertus Medium"/>
              </a:rPr>
              <a:t>Responsibl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lbertus Medium"/>
              </a:rPr>
              <a:t>Organized young la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lbertus Medium"/>
              </a:rPr>
              <a:t>In dependable pers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lligent young la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itted per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ust worthy young chic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00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Butterfly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2092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5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y Weaknes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of my weakness is that I don’t do  good test tak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, weakness is not knowing the prepositions phra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Bandaid"/>
          <p:cNvPicPr/>
          <p:nvPr/>
        </p:nvPicPr>
        <p:blipFill>
          <a:blip r:embed="rId1"/>
          <a:stretch/>
        </p:blipFill>
        <p:spPr>
          <a:xfrm>
            <a:off x="4648320" y="4038480"/>
            <a:ext cx="4495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What did I Learn Today?</a:t>
            </a:r>
            <a:br>
              <a:rPr sz="40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he question of the day!!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have a high body intelligence and body Kinesthetic hab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am a ISTJ pers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eaning of the two or more words that sound the same and have the same spell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the easier phrase to remember about the conjunctions phrase.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AN BOYS!!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to do sentence combing, by using fewer words possi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to remember the preposition phrase easi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21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dog ate my homework"/>
          <p:cNvPicPr/>
          <p:nvPr/>
        </p:nvPicPr>
        <p:blipFill>
          <a:blip r:embed="rId1"/>
          <a:stretch/>
        </p:blipFill>
        <p:spPr>
          <a:xfrm>
            <a:off x="6629400" y="46483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 the Future…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want to graduate from college in about four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jor in accounting, dealing with the F.B.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ve a minor in International Busi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marry in about five to six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vel around the wor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37" name="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9c004e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" name="" descr="lawyers_talking_md_wht.gif"/>
          <p:cNvPicPr/>
          <p:nvPr/>
        </p:nvPicPr>
        <p:blipFill>
          <a:blip r:embed="rId2"/>
          <a:stretch/>
        </p:blipFill>
        <p:spPr>
          <a:xfrm>
            <a:off x="6477120" y="48006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did I like about the English Program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ogram Hispanic Future Professional Academy Program was a good experience for  me because I got to refresh my mind about english and learn about topic that I never learn before. I got to met new people and had a chance to explore the college life before I start in the fall. Another point is that I’m getting the opportunity to retake my ACT, so I could improve my score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925720"/>
            <a:ext cx="9144000" cy="1006560"/>
            <a:chOff x="0" y="2925720"/>
            <a:chExt cx="9144000" cy="1006560"/>
          </a:xfrm>
        </p:grpSpPr>
        <p:sp>
          <p:nvSpPr>
            <p:cNvPr id="146" name=""/>
            <p:cNvSpPr/>
            <p:nvPr/>
          </p:nvSpPr>
          <p:spPr>
            <a:xfrm>
              <a:off x="0" y="2925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2925720"/>
              <a:ext cx="9144000" cy="1006560"/>
              <a:chOff x="0" y="2925720"/>
              <a:chExt cx="9144000" cy="100656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2925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2925720"/>
                <a:ext cx="914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0" name="" descr="book_page_flip_md_wht.gif"/>
          <p:cNvPicPr/>
          <p:nvPr/>
        </p:nvPicPr>
        <p:blipFill>
          <a:blip r:embed="rId1"/>
          <a:stretch/>
        </p:blipFill>
        <p:spPr>
          <a:xfrm>
            <a:off x="2514600" y="5638680"/>
            <a:ext cx="350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9:16:24Z</dcterms:created>
  <dc:creator>kk ss</dc:creator>
  <dc:description/>
  <dc:language>en-US</dc:language>
  <cp:lastModifiedBy>College of Education</cp:lastModifiedBy>
  <dcterms:modified xsi:type="dcterms:W3CDTF">2006-07-09T22:10:29Z</dcterms:modified>
  <cp:revision>10</cp:revision>
  <dc:subject/>
  <dc:title>Marissa Maldonado  </dc:title>
</cp:coreProperties>
</file>